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177-A588-426D-BA90-758ADA999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32D-58E2-4FA8-A1BF-A030BBDBA8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3C-08CF-4FBD-800B-5CBDAFE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CD0-5D9A-4208-9724-DD6A1CF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366-AE01-4B69-8FFE-3BC2E9EB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090-DF19-41A6-88FE-791F9185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3A4-1E04-48F5-9944-ABD7016B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FB0-B48C-44A4-BA8F-68E0969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668-CD2C-470B-9A5C-0058B66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1CD-1F1A-4F7E-B277-DFFB0937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D10-A72E-4A07-86CF-761E82F8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884-8C25-43EC-9E62-A761E4C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C2D-A0BC-4F1C-A829-5C9BDE9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101-3705-4511-A8A9-0AFF994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E5F8-891B-4FA1-A8CB-89E3A55C7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616040" y="420840"/>
            <a:ext cx="6272280" cy="779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с двумя скругленными соседними углами 4"/>
          <p:cNvSpPr/>
          <p:nvPr/>
        </p:nvSpPr>
        <p:spPr>
          <a:xfrm>
            <a:off x="539640" y="549360"/>
            <a:ext cx="8353440" cy="26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Constantia"/>
              </a:rPr>
              <a:t>Die Rolle der Freundschaft im unserem Leben. Wie kann man sie bewah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27280" y="3716280"/>
            <a:ext cx="3657600" cy="2462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0000cc"/>
                </a:solidFill>
                <a:latin typeface="Constantia"/>
              </a:rPr>
              <a:t>Wer ist in der Klasse...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00"/>
                </a:solidFill>
                <a:latin typeface="Constantia"/>
              </a:rPr>
              <a:t>Für die Jungen</a:t>
            </a:r>
            <a:r>
              <a:rPr b="1" lang="de-DE" sz="3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de-DE" sz="3200" spc="-1" strike="noStrike">
                <a:solidFill>
                  <a:srgbClr val="ff3399"/>
                </a:solidFill>
                <a:latin typeface="Constantia"/>
              </a:rPr>
              <a:t>Für die Mäd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sportlich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klüg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ruhig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ruhig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gutmutig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zuverläßigst</a:t>
            </a:r>
            <a:r>
              <a:rPr b="1" lang="ru-RU" sz="2800" spc="-1" strike="noStrike">
                <a:solidFill>
                  <a:srgbClr val="00cc00"/>
                </a:solidFill>
                <a:latin typeface="Constantia"/>
              </a:rPr>
              <a:t>е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klüg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bescheiden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ern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hilfsbereite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arbeitsam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hübsch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cc"/>
                </a:solidFill>
                <a:latin typeface="Constantia"/>
              </a:rPr>
              <a:t>der zuverläßigst</a:t>
            </a: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е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lustig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Constantia"/>
              </a:rPr>
              <a:t>der humorvollste</a:t>
            </a:r>
            <a:r>
              <a:rPr b="1" lang="de-DE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de-DE" sz="2800" spc="-1" strike="noStrike">
                <a:solidFill>
                  <a:srgbClr val="00cc00"/>
                </a:solidFill>
                <a:latin typeface="Constantia"/>
              </a:rPr>
              <a:t>die arbeitsamste</a:t>
            </a:r>
            <a:r>
              <a:rPr b="1" lang="ru-RU" sz="2800" spc="-1" strike="noStrike">
                <a:solidFill>
                  <a:srgbClr val="00cc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Constantia"/>
              </a:rPr>
              <a:t>Die Umfrage der Schüler </a:t>
            </a:r>
            <a:br>
              <a:rPr sz="4000"/>
            </a:br>
            <a:r>
              <a:rPr b="1" lang="de-DE" sz="4000" spc="-1" strike="noStrike">
                <a:solidFill>
                  <a:srgbClr val="0000cc"/>
                </a:solidFill>
                <a:latin typeface="Constantia"/>
              </a:rPr>
              <a:t>der Oberstufe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421000"/>
            <a:ext cx="1296720" cy="1584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2637000"/>
            <a:ext cx="1224000" cy="136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924280"/>
            <a:ext cx="1366560" cy="10587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3068640"/>
            <a:ext cx="1368360" cy="914400"/>
          </a:xfrm>
          <a:prstGeom prst="rect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3284640"/>
            <a:ext cx="1152360" cy="6984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7640" y="3357720"/>
            <a:ext cx="1079640" cy="6253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4400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tr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277164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90600" y="292428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tänd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68640"/>
            <a:ext cx="1368360" cy="9169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lfsber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3800" y="3284640"/>
            <a:ext cx="11210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ler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1080" y="3357720"/>
            <a:ext cx="970200" cy="6426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d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1733400" cy="186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245412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de-DE" sz="4000" spc="-1" strike="noStrike">
                <a:solidFill>
                  <a:srgbClr val="0000ff"/>
                </a:solidFill>
                <a:latin typeface="Constantia"/>
              </a:rPr>
              <a:t>Und nun ziehen wir  unser Bilanz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de-DE" sz="4000" spc="-1" strike="noStrike">
                <a:solidFill>
                  <a:srgbClr val="ff3399"/>
                </a:solidFill>
                <a:latin typeface="Constantia"/>
              </a:rPr>
              <a:t>Was haben wir heute erfahren?</a:t>
            </a:r>
            <a:r>
              <a:rPr b="0" lang="de-DE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de-DE" sz="4000" spc="-1" strike="noStrike">
                <a:solidFill>
                  <a:srgbClr val="009900"/>
                </a:solidFill>
                <a:latin typeface="Constantia"/>
              </a:rPr>
              <a:t>Was ist die echte Freundschaft?</a:t>
            </a:r>
            <a:r>
              <a:rPr b="0" lang="de-DE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4000" spc="-1" strike="noStrike">
                <a:solidFill>
                  <a:srgbClr val="993300"/>
                </a:solidFill>
                <a:latin typeface="Constantia"/>
              </a:rPr>
              <a:t>Ihre Meinung bitte: Welche Charakterzüge des Menschen sind in unserem Leben am wichtigsten und warum?</a:t>
            </a:r>
            <a:r>
              <a:rPr b="0" lang="de-DE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1143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333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Ваша 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87880"/>
            <a:ext cx="792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Я выполнял задания с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ДА + ___________________ –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Задания мне показ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ЛЁГКИМИ + _________________ – ТРУД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Я старался выполнить задания как можно луч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ДА + ____________________ –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Я должен был бы учиться лучше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выполнить задания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ДА + ____________________ –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Трудности вызвала у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одготовительн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устная часть задания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  ауд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аибольший интерес вызвало зада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Моя отметка себ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с двумя скругленными соседними углами 4"/>
          <p:cNvSpPr/>
          <p:nvPr/>
        </p:nvSpPr>
        <p:spPr>
          <a:xfrm>
            <a:off x="755640" y="1052640"/>
            <a:ext cx="7632720" cy="54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1. Welche Bedeutung hat d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Freundschaft heutzut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2. Glauben Sie an die ech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Freundscha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3. Ist es leicht, einen richtig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Freund zu fin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4. Welche Eigenschaf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schätzen Sie in Ihr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  </a:t>
            </a: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Freun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с двумя скругленными соседними углами 4"/>
          <p:cNvSpPr/>
          <p:nvPr/>
        </p:nvSpPr>
        <p:spPr>
          <a:xfrm>
            <a:off x="1258920" y="1125360"/>
            <a:ext cx="6769080" cy="49676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9900"/>
                </a:solidFill>
                <a:latin typeface="Constantia"/>
              </a:rPr>
              <a:t>Die Freundsch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557360"/>
            <a:ext cx="134784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1557360"/>
            <a:ext cx="136836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508640"/>
            <a:ext cx="129708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4797360"/>
            <a:ext cx="136836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2852640"/>
            <a:ext cx="4896000" cy="1297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nstantia"/>
              </a:rPr>
              <a:t>Die Freundsch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4508640"/>
            <a:ext cx="136692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32000" y="2421000"/>
            <a:ext cx="432000" cy="503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00000" y="4149720"/>
            <a:ext cx="1079640" cy="647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149720"/>
            <a:ext cx="0" cy="5745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4076640"/>
            <a:ext cx="1008000" cy="50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364000" y="2421000"/>
            <a:ext cx="432000" cy="503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с двумя скругленными соседними углами 4"/>
          <p:cNvSpPr/>
          <p:nvPr/>
        </p:nvSpPr>
        <p:spPr>
          <a:xfrm>
            <a:off x="684360" y="981000"/>
            <a:ext cx="8208720" cy="496908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schlagfertig</a:t>
            </a:r>
            <a:r>
              <a:rPr b="0" lang="de-DE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находчивый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begabt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талант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geistreich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остроум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gutmütig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добродуш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treu</a:t>
            </a:r>
            <a:r>
              <a:rPr b="1" lang="de-DE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вер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 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hilfsbereit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-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готов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помочь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fröhlich</a:t>
            </a:r>
            <a:r>
              <a:rPr b="1" lang="de-DE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весёл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flexibel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коммуникабель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veranwortlich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 –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ответствен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wi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β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begierig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                                                        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любозн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ernst</a:t>
            </a:r>
            <a:r>
              <a:rPr b="0" lang="de-DE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серьёз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gerecht</a:t>
            </a:r>
            <a:r>
              <a:rPr b="0" lang="de-DE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справед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rücksichtsvoll</a:t>
            </a:r>
            <a:r>
              <a:rPr b="0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отзывчив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feinfühlig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чут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klug</a:t>
            </a:r>
            <a:r>
              <a:rPr b="1" lang="de-DE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ум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     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bescheiden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скром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tolerant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терпим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zuverlässig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надё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urst</a:t>
            </a:r>
            <a:r>
              <a:rPr b="1" lang="de-DE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приколь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                           </a:t>
            </a:r>
            <a:r>
              <a:rPr b="1" lang="de-DE" sz="2400" spc="-1" strike="noStrike">
                <a:solidFill>
                  <a:srgbClr val="0000ff"/>
                </a:solidFill>
                <a:latin typeface="Constantia"/>
              </a:rPr>
              <a:t>geduldig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-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терпе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с двумя скругленными соседними углами 4"/>
          <p:cNvSpPr/>
          <p:nvPr/>
        </p:nvSpPr>
        <p:spPr>
          <a:xfrm>
            <a:off x="900000" y="1413000"/>
            <a:ext cx="7559640" cy="396072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unehrlich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нечестный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unflexibel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не иду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на контакт                                                   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nachtragend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злопамятный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eigensinnig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упря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kleinlich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мелочный  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arrogant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высокомерный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rau</a:t>
            </a:r>
            <a:r>
              <a:rPr b="1" lang="ru-RU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грубый 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trotzig</a:t>
            </a:r>
            <a:r>
              <a:rPr b="1" lang="ru-RU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воен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eizig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жадный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unwirsch</a:t>
            </a:r>
            <a:r>
              <a:rPr b="1" lang="ru-RU" sz="2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дерз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feigig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трусливый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w</a:t>
            </a:r>
            <a:r>
              <a:rPr b="1" lang="ru-RU" sz="2400" spc="-1" strike="noStrike">
                <a:solidFill>
                  <a:srgbClr val="009900"/>
                </a:solidFill>
                <a:latin typeface="Constantia"/>
              </a:rPr>
              <a:t>ü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tend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раздражённый</a:t>
            </a: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                                                                   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selbstsicher 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амонадеянный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  </a:t>
            </a:r>
            <a:r>
              <a:rPr b="1" lang="de-DE" sz="2400" spc="-1" strike="noStrike">
                <a:solidFill>
                  <a:srgbClr val="009900"/>
                </a:solidFill>
                <a:latin typeface="Constantia"/>
              </a:rPr>
              <a:t>faul</a:t>
            </a:r>
            <a:r>
              <a:rPr b="1" lang="de-DE" sz="2000" spc="-1" strike="noStrike">
                <a:solidFill>
                  <a:srgbClr val="009900"/>
                </a:solidFill>
                <a:latin typeface="Constant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лен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15"/>
          <p:cNvSpPr/>
          <p:nvPr/>
        </p:nvSpPr>
        <p:spPr>
          <a:xfrm>
            <a:off x="2484360" y="189000"/>
            <a:ext cx="5904000" cy="143964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nstantia"/>
              </a:rPr>
              <a:t>Ordnet die Begriff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nstantia"/>
              </a:rPr>
              <a:t>in die Tab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440" y="2225520"/>
            <a:ext cx="574200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00360" y="1773360"/>
          <a:ext cx="5183280" cy="2130480"/>
        </p:xfrm>
        <a:graphic>
          <a:graphicData uri="http://schemas.openxmlformats.org/drawingml/2006/table">
            <a:tbl>
              <a:tblPr/>
              <a:tblGrid>
                <a:gridCol w="259236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Positi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Negati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817640" cy="17956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24000" y="4076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Constantia"/>
              </a:rPr>
              <a:t>kleinlich, tolerant, zuverlässig, rau, gerecht, ernst, eigensinnig, rücksichtsv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Constantia"/>
              </a:rPr>
              <a:t>nachtragend, urst, schlagfertig, trotzig, fröhlich, selbstsicher, beschei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с двумя скругленными соседними углами 4"/>
          <p:cNvSpPr/>
          <p:nvPr/>
        </p:nvSpPr>
        <p:spPr>
          <a:xfrm>
            <a:off x="684360" y="1484280"/>
            <a:ext cx="7885080" cy="43941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cc00"/>
                </a:solidFill>
                <a:latin typeface="Constantia"/>
              </a:rPr>
              <a:t>Der echte Freund ist nicht mit Gold zu bezahlen.</a:t>
            </a:r>
            <a:r>
              <a:rPr b="1" lang="de-DE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Freundschaft ist das halbe Leben.</a:t>
            </a:r>
            <a:r>
              <a:rPr b="1" lang="de-D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3600" spc="-1" strike="noStrike">
                <a:solidFill>
                  <a:srgbClr val="00cc00"/>
                </a:solidFill>
                <a:latin typeface="Constantia"/>
              </a:rPr>
              <a:t>Freunde in der Not gehen hundert auf ein Lot.</a:t>
            </a:r>
            <a:r>
              <a:rPr b="1" lang="de-DE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Im Siel gibt es keine Freundschaft.</a:t>
            </a:r>
            <a:r>
              <a:rPr b="1" lang="de-D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3600" spc="-1" strike="noStrike">
                <a:solidFill>
                  <a:srgbClr val="00cc00"/>
                </a:solidFill>
                <a:latin typeface="Constantia"/>
              </a:rPr>
              <a:t>Siedet der Topf, so blühet die Freundschaft.</a:t>
            </a:r>
            <a:r>
              <a:rPr b="1" lang="de-DE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0808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Constantia"/>
              </a:rPr>
              <a:t>Sucht zu den deutschen Sprichwör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de-DE" sz="3200" spc="-1" strike="noStrike">
                <a:solidFill>
                  <a:srgbClr val="0033cc"/>
                </a:solidFill>
                <a:latin typeface="Constantia"/>
              </a:rPr>
              <a:t>russische Äqui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1052640"/>
            <a:ext cx="72723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Настоящего друга не купишь ни за какие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деньги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onstantia"/>
              </a:rPr>
              <a:t>Не имей </a:t>
            </a:r>
            <a:r>
              <a:rPr b="1" lang="ru-RU" sz="4400" spc="-1" strike="noStrike">
                <a:solidFill>
                  <a:srgbClr val="00cc00"/>
                </a:solidFill>
                <a:latin typeface="Constantia"/>
              </a:rPr>
              <a:t>100 </a:t>
            </a:r>
            <a:r>
              <a:rPr b="1" lang="ru-RU" sz="3600" spc="-1" strike="noStrike">
                <a:solidFill>
                  <a:srgbClr val="00cc00"/>
                </a:solidFill>
                <a:latin typeface="Constantia"/>
              </a:rPr>
              <a:t>рублей, а имей сто друз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Друг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познаётся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в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беде</a:t>
            </a:r>
            <a:r>
              <a:rPr b="1" lang="de-DE" sz="3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onstantia"/>
              </a:rPr>
              <a:t>Дружба дружб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onstantia"/>
              </a:rPr>
              <a:t>а табачок – вроз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Скатерть со стол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и дружба сплы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4000" cy="231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Calibri"/>
              </a:rPr>
              <a:t>Wählt eine richtige </a:t>
            </a:r>
            <a:r>
              <a:rPr b="1" lang="de-DE" sz="4000" spc="-1" strike="noStrike">
                <a:solidFill>
                  <a:srgbClr val="0000cc"/>
                </a:solidFill>
                <a:latin typeface="Constantia"/>
              </a:rPr>
              <a:t>Variante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99"/>
                </a:solidFill>
                <a:latin typeface="Constantia"/>
              </a:rPr>
              <a:t>1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Man sagt, dass es besser ohne Geld in der Tasche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ist;    b) sei;   c) wä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99"/>
                </a:solidFill>
                <a:latin typeface="Constantia"/>
              </a:rPr>
              <a:t>2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Wir brauchen jemanden,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uns immer helfen kan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das;   b) die;  c) d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3399"/>
                </a:solidFill>
                <a:latin typeface="Constantia"/>
              </a:rPr>
              <a:t>3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Wir sind schon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Kindheit an befreund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von;   b) seit;  c) n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3399"/>
                </a:solidFill>
                <a:latin typeface="Constantia"/>
              </a:rPr>
              <a:t>4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Mein Freund hat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Charakt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einen guten; b) ein guter;  c) eines guten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3399"/>
                </a:solidFill>
                <a:latin typeface="Constantia"/>
              </a:rPr>
              <a:t>5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Ich bin stolz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, dass wir Freunde sin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danach;  b) darüber; c) darauf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3399"/>
                </a:solidFill>
                <a:latin typeface="Constantia"/>
              </a:rPr>
              <a:t>6.</a:t>
            </a: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Es ist immer interessant und lustig, </a:t>
            </a:r>
            <a:r>
              <a:rPr b="1" lang="de-DE" sz="2400" spc="-1" strike="noStrike">
                <a:solidFill>
                  <a:srgbClr val="ff3399"/>
                </a:solidFill>
                <a:latin typeface="Constantia"/>
              </a:rPr>
              <a:t>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Constantia"/>
              </a:rPr>
              <a:t>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a) zu führen mit ihm Gespräche zu verschieden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Theme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b) mit ihm Gespräche zu verschiedenen Themen zu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 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führe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c) zu verschiedenen Themen zu führen mit ih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           </a:t>
            </a:r>
            <a:r>
              <a:rPr b="1" lang="de-DE" sz="2200" spc="-1" strike="noStrike">
                <a:solidFill>
                  <a:srgbClr val="0033cc"/>
                </a:solidFill>
                <a:latin typeface="Constantia"/>
              </a:rPr>
              <a:t>Gespräch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30:26Z</dcterms:created>
  <dc:creator>Олег</dc:creator>
  <dc:description/>
  <dc:language>en-US</dc:language>
  <cp:lastModifiedBy>Евгений Шрайнер</cp:lastModifiedBy>
  <dcterms:modified xsi:type="dcterms:W3CDTF">2013-12-19T18:41:27Z</dcterms:modified>
  <cp:revision>4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836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