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B9E-2792-4062-8954-1EF42B37A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143-FB8F-46DC-957D-9A1D5318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EC56-6B1A-48CC-A800-94A60FDA0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1EB-5389-431B-B10E-AADF3455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F36-CC55-48FC-AA9A-64F9A19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A14-6093-4349-9C00-7675DEF2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1D1-B4C7-448C-AE6D-D1DA387F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9F9-4FF4-448C-9CBD-96C067EF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AC3-D33C-4608-B787-8AEF3883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E66-975D-4A7A-996C-95C05653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380-944B-4BFD-8991-1133BA3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B1B-0E0C-46BE-A23A-2F299188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7FC-8568-4CB3-9838-9EE4E97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4B0-3DB9-4857-B9B1-7524B7A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6E0-871B-4EBE-8E9A-5E21A9A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8C9-D546-4E64-9A07-4E5ACB6D4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785880" y="1905120"/>
            <a:ext cx="7643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ЕКТИРОВАНИЕ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 ПОЗИЦИИ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еводина Е.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БОУ СОШ № 1 г. Энгель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38160" y="4071960"/>
            <a:ext cx="356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9400" y="1844640"/>
            <a:ext cx="82198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 1. Play in teams. Mime am activity you are doing in the room. The other team guesses where you are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539640" y="1998360"/>
            <a:ext cx="76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eam A: (slee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eam B: Are you in the bedro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6"/>
          <p:cNvSpPr/>
          <p:nvPr/>
        </p:nvSpPr>
        <p:spPr>
          <a:xfrm>
            <a:off x="336600" y="2997360"/>
            <a:ext cx="8218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 2. Name a room. Your partner says two things it has g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14520" y="4873320"/>
            <a:ext cx="76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: It’s a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: It has got a wardrobe and a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544680" y="107640"/>
            <a:ext cx="76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sk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8480" y="33300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ill in the gaps (1-5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dialogue with the missing sentences (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. There is one extra sentence. Listen and check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528480" y="310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08000" y="1690560"/>
            <a:ext cx="55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arty i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, look at that boy over there. Who is 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. What’s his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’s got lovely blue eyes! How old is 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he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: 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……………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5651640" y="1371960"/>
            <a:ext cx="33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 one with fair h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e is fif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He is tall and 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He is funny. Come and meet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Johnny. He is Bill’s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77720" y="4005000"/>
            <a:ext cx="5607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tty is Brian’s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arah is Andrew’s 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illiam is Simon’s 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etty is Sarah’s …………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ue is Andrew’s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rian is Jane’s 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с двумя скругленными соседними углами 3"/>
          <p:cNvSpPr/>
          <p:nvPr/>
        </p:nvSpPr>
        <p:spPr>
          <a:xfrm>
            <a:off x="1916280" y="1460520"/>
            <a:ext cx="1419120" cy="576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514440" y="2374920"/>
            <a:ext cx="1411200" cy="53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с двумя скругленными соседними углами 13"/>
          <p:cNvSpPr/>
          <p:nvPr/>
        </p:nvSpPr>
        <p:spPr>
          <a:xfrm>
            <a:off x="5508720" y="1460520"/>
            <a:ext cx="1320840" cy="576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4"/>
          <p:cNvSpPr/>
          <p:nvPr/>
        </p:nvSpPr>
        <p:spPr>
          <a:xfrm>
            <a:off x="2484360" y="2397240"/>
            <a:ext cx="1514520" cy="48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9"/>
          <p:cNvSpPr/>
          <p:nvPr/>
        </p:nvSpPr>
        <p:spPr>
          <a:xfrm>
            <a:off x="2506680" y="3349800"/>
            <a:ext cx="1492200" cy="542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0"/>
          <p:cNvSpPr/>
          <p:nvPr/>
        </p:nvSpPr>
        <p:spPr>
          <a:xfrm>
            <a:off x="369720" y="3349800"/>
            <a:ext cx="1555920" cy="510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7"/>
          <p:cNvSpPr/>
          <p:nvPr/>
        </p:nvSpPr>
        <p:spPr>
          <a:xfrm>
            <a:off x="5699160" y="2422440"/>
            <a:ext cx="1393920" cy="53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60"/>
          <p:cNvSpPr/>
          <p:nvPr/>
        </p:nvSpPr>
        <p:spPr>
          <a:xfrm>
            <a:off x="7596360" y="2422440"/>
            <a:ext cx="1296720" cy="541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3"/>
          <p:cNvSpPr/>
          <p:nvPr/>
        </p:nvSpPr>
        <p:spPr>
          <a:xfrm>
            <a:off x="6648480" y="3327480"/>
            <a:ext cx="148752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8"/>
          <p:cNvSpPr/>
          <p:nvPr/>
        </p:nvSpPr>
        <p:spPr>
          <a:xfrm>
            <a:off x="3335400" y="1749600"/>
            <a:ext cx="217332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47"/>
          <p:cNvSpPr/>
          <p:nvPr/>
        </p:nvSpPr>
        <p:spPr>
          <a:xfrm>
            <a:off x="4421160" y="1749600"/>
            <a:ext cx="0" cy="3841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1"/>
          <p:cNvSpPr/>
          <p:nvPr/>
        </p:nvSpPr>
        <p:spPr>
          <a:xfrm flipH="1">
            <a:off x="3241800" y="2133720"/>
            <a:ext cx="117936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3"/>
          <p:cNvSpPr/>
          <p:nvPr/>
        </p:nvSpPr>
        <p:spPr>
          <a:xfrm>
            <a:off x="3241800" y="2133720"/>
            <a:ext cx="0" cy="2635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55"/>
          <p:cNvSpPr/>
          <p:nvPr/>
        </p:nvSpPr>
        <p:spPr>
          <a:xfrm>
            <a:off x="1925640" y="2641680"/>
            <a:ext cx="55872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58"/>
          <p:cNvSpPr/>
          <p:nvPr/>
        </p:nvSpPr>
        <p:spPr>
          <a:xfrm>
            <a:off x="2205000" y="2641680"/>
            <a:ext cx="0" cy="4269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61"/>
          <p:cNvSpPr/>
          <p:nvPr/>
        </p:nvSpPr>
        <p:spPr>
          <a:xfrm flipH="1">
            <a:off x="1147320" y="3068640"/>
            <a:ext cx="105732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65"/>
          <p:cNvSpPr/>
          <p:nvPr/>
        </p:nvSpPr>
        <p:spPr>
          <a:xfrm>
            <a:off x="1147680" y="3068640"/>
            <a:ext cx="0" cy="25884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8"/>
          <p:cNvSpPr/>
          <p:nvPr/>
        </p:nvSpPr>
        <p:spPr>
          <a:xfrm>
            <a:off x="2205000" y="3068640"/>
            <a:ext cx="103680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0"/>
          <p:cNvSpPr/>
          <p:nvPr/>
        </p:nvSpPr>
        <p:spPr>
          <a:xfrm>
            <a:off x="3252960" y="3068640"/>
            <a:ext cx="0" cy="281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72"/>
          <p:cNvSpPr/>
          <p:nvPr/>
        </p:nvSpPr>
        <p:spPr>
          <a:xfrm>
            <a:off x="4421160" y="2133720"/>
            <a:ext cx="1974960" cy="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4"/>
          <p:cNvSpPr/>
          <p:nvPr/>
        </p:nvSpPr>
        <p:spPr>
          <a:xfrm>
            <a:off x="6396120" y="2133720"/>
            <a:ext cx="0" cy="2412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76"/>
          <p:cNvSpPr/>
          <p:nvPr/>
        </p:nvSpPr>
        <p:spPr>
          <a:xfrm>
            <a:off x="7093080" y="2687760"/>
            <a:ext cx="503280" cy="61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78"/>
          <p:cNvSpPr/>
          <p:nvPr/>
        </p:nvSpPr>
        <p:spPr>
          <a:xfrm>
            <a:off x="7343640" y="2693880"/>
            <a:ext cx="0" cy="6336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7. Look at the family tree and complete the sentenc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9400" y="1844640"/>
            <a:ext cx="821988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 1. Play in teams. Mime am activity you are doing in the room. The other team guesses where you are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539640" y="1998360"/>
            <a:ext cx="76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eam A: (slee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eam B: Are you in the bedro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6"/>
          <p:cNvSpPr/>
          <p:nvPr/>
        </p:nvSpPr>
        <p:spPr>
          <a:xfrm>
            <a:off x="336600" y="2997360"/>
            <a:ext cx="8218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 2. Name a room. Your partner says two things it has g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614520" y="4873320"/>
            <a:ext cx="76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: It’s a bed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: It has got a wardrobe and a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44680" y="107640"/>
            <a:ext cx="76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sk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9. Match the words to the definitions. Use your dictionar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44360" y="2924280"/>
            <a:ext cx="8750520" cy="2923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62000" y="2065320"/>
            <a:ext cx="875016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39680" y="2044800"/>
          <a:ext cx="8763120" cy="379728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7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2000" y="2063880"/>
          <a:ext cx="8788320" cy="3784320"/>
        </p:xfrm>
        <a:graphic>
          <a:graphicData uri="http://schemas.openxmlformats.org/drawingml/2006/table">
            <a:tbl>
              <a:tblPr/>
              <a:tblGrid>
                <a:gridCol w="8788320"/>
              </a:tblGrid>
              <a:tr h="37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7"/>
          <p:cNvGrpSpPr/>
          <p:nvPr/>
        </p:nvGrpSpPr>
        <p:grpSpPr>
          <a:xfrm>
            <a:off x="9524880" y="1882800"/>
            <a:ext cx="152640" cy="3093840"/>
            <a:chOff x="9524880" y="1882800"/>
            <a:chExt cx="152640" cy="3093840"/>
          </a:xfrm>
        </p:grpSpPr>
        <p:sp>
          <p:nvSpPr>
            <p:cNvPr id="134" name="Rectangle 2"/>
            <p:cNvSpPr/>
            <p:nvPr/>
          </p:nvSpPr>
          <p:spPr>
            <a:xfrm>
              <a:off x="9524880" y="18828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6"/>
            <p:cNvGrpSpPr/>
            <p:nvPr/>
          </p:nvGrpSpPr>
          <p:grpSpPr>
            <a:xfrm>
              <a:off x="9524880" y="1882800"/>
              <a:ext cx="152640" cy="3093840"/>
              <a:chOff x="9524880" y="1882800"/>
              <a:chExt cx="152640" cy="3093840"/>
            </a:xfrm>
          </p:grpSpPr>
          <p:sp>
            <p:nvSpPr>
              <p:cNvPr id="136" name="Rectangle 3"/>
              <p:cNvSpPr/>
              <p:nvPr/>
            </p:nvSpPr>
            <p:spPr>
              <a:xfrm>
                <a:off x="9524880" y="18828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"/>
              <p:cNvSpPr/>
              <p:nvPr/>
            </p:nvSpPr>
            <p:spPr>
              <a:xfrm>
                <a:off x="9524880" y="1882800"/>
                <a:ext cx="152640" cy="30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Text Box 9"/>
          <p:cNvSpPr/>
          <p:nvPr/>
        </p:nvSpPr>
        <p:spPr>
          <a:xfrm>
            <a:off x="228600" y="369720"/>
            <a:ext cx="862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ормированию универсальных учебных действий и выработке «умения учиться» способствуют задания творческого характер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304920" y="2133720"/>
            <a:ext cx="8474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гадывание кроссвор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ление кроссвордов, загадок по пройденной лекси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Нарисуй картинку и составь ее описание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Поставь слова или предложения в логическом порядке, чтобы получилось предложение или тек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Прочитай рассказ, в котором некоторые слова заменены рисунками. Попробуй сам придумать такой рассказ для своих друзей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думай загадку для своих друзей (например», при изучении темы  "Animals"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«Нарисуй картинку к прочитанному тексту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ологической карт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ь педагога по разработке технологиче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ы складывается из ряда последовательных действ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ить учебные возможности клас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ь ведущие знания и умения по учебной теме и провести  структурирование учебного материала (т. е. определить логическую взаимосвязь между ведущими знаниями и умения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диагностические цели урока, которые определяют уровень усвоения содерж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248520" cy="84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7880" y="1355760"/>
            <a:ext cx="8175600" cy="18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ременная форма планирования педагогического взаимодействия учителя 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 графического проектирования урока, таблица, позволяющая структурировать урок по выбранным учителем параметр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685800" y="3200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и параметрами технологической карты могу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Текст 3"/>
          <p:cNvSpPr/>
          <p:nvPr/>
        </p:nvSpPr>
        <p:spPr>
          <a:xfrm>
            <a:off x="457200" y="4173480"/>
            <a:ext cx="81756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, его этапы, цель и задачи каждого эта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иваемое на каждом этапе уро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и деятельность обучающих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мые УУ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учения, формы и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позволит учителю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ланируемые результаты ФГОС второго покол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формировать у учащихся универсальные учебные действ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свою деятельность на четверть, полугодие, год посредством перехода от поурочного планирования к проектированию темы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е реализовать межпредметные связ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диагностику достижения планируемых результатов учащимися на каждом этапе освоения тем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2895120"/>
            <a:ext cx="80773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3645000"/>
          <a:ext cx="8720280" cy="2865240"/>
        </p:xfrm>
        <a:graphic>
          <a:graphicData uri="http://schemas.openxmlformats.org/drawingml/2006/table">
            <a:tbl>
              <a:tblPr/>
              <a:tblGrid>
                <a:gridCol w="1941480"/>
                <a:gridCol w="2406960"/>
                <a:gridCol w="2352600"/>
                <a:gridCol w="201924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е учебные дейст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2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angle 4" descr=""/>
          <p:cNvPicPr/>
          <p:nvPr/>
        </p:nvPicPr>
        <p:blipFill>
          <a:blip r:embed="rId1"/>
          <a:stretch/>
        </p:blipFill>
        <p:spPr>
          <a:xfrm>
            <a:off x="450720" y="1639800"/>
            <a:ext cx="8242560" cy="1968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, реализующего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ирование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371600" y="304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15880" y="380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заданий для формирования универсальных учебных действий на уроках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611280" y="1557360"/>
            <a:ext cx="778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ые УУД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суждение ситуаций, требующих морального выб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дания и речевые ситуации, ориентированные на нравственное воспитание (доброжелательность, трудолюбие, самостоятельность, ответствен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алоги этикетно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пражнения на развитие умений достойно представить свою страну на английском язы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пражнения на сопоставление положительных особенностей российской культуры и культуры стран изучаемого язы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Обсуждение тем в режиме диалога со сверстниками, во взаимодействии с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2895120"/>
            <a:ext cx="80773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, реализующего формирование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371600" y="304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280" y="3424320"/>
          <a:ext cx="8991720" cy="3429000"/>
        </p:xfrm>
        <a:graphic>
          <a:graphicData uri="http://schemas.openxmlformats.org/drawingml/2006/table">
            <a:tbl>
              <a:tblPr/>
              <a:tblGrid>
                <a:gridCol w="1081080"/>
                <a:gridCol w="1082880"/>
                <a:gridCol w="1082520"/>
                <a:gridCol w="1082880"/>
                <a:gridCol w="1082520"/>
                <a:gridCol w="1081080"/>
                <a:gridCol w="1082880"/>
                <a:gridCol w="141588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Rectangle 4" descr=""/>
          <p:cNvPicPr/>
          <p:nvPr/>
        </p:nvPicPr>
        <p:blipFill>
          <a:blip r:embed="rId1"/>
          <a:stretch/>
        </p:blipFill>
        <p:spPr>
          <a:xfrm>
            <a:off x="450720" y="1639800"/>
            <a:ext cx="8242560" cy="1968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"/>
          <p:cNvGrpSpPr/>
          <p:nvPr/>
        </p:nvGrpSpPr>
        <p:grpSpPr>
          <a:xfrm>
            <a:off x="9524880" y="3962520"/>
            <a:ext cx="152640" cy="1022400"/>
            <a:chOff x="9524880" y="3962520"/>
            <a:chExt cx="152640" cy="1022400"/>
          </a:xfrm>
        </p:grpSpPr>
        <p:sp>
          <p:nvSpPr>
            <p:cNvPr id="53" name="Rectangle 2"/>
            <p:cNvSpPr/>
            <p:nvPr/>
          </p:nvSpPr>
          <p:spPr>
            <a:xfrm>
              <a:off x="9524880" y="39625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9524880" y="3962520"/>
              <a:ext cx="152640" cy="1022400"/>
              <a:chOff x="9524880" y="3962520"/>
              <a:chExt cx="152640" cy="1022400"/>
            </a:xfrm>
          </p:grpSpPr>
          <p:sp>
            <p:nvSpPr>
              <p:cNvPr id="55" name="Rectangle 3"/>
              <p:cNvSpPr/>
              <p:nvPr/>
            </p:nvSpPr>
            <p:spPr>
              <a:xfrm>
                <a:off x="9524880" y="39625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4"/>
              <p:cNvSpPr/>
              <p:nvPr/>
            </p:nvSpPr>
            <p:spPr>
              <a:xfrm>
                <a:off x="9524880" y="3962520"/>
                <a:ext cx="1526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8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Text Box 10"/>
          <p:cNvSpPr/>
          <p:nvPr/>
        </p:nvSpPr>
        <p:spPr>
          <a:xfrm>
            <a:off x="393840" y="534960"/>
            <a:ext cx="82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знаватель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93840" y="1228680"/>
            <a:ext cx="829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амостоятельное выделение основного в тек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остроение высказывания с опорой на картинки или схе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Упражнения на развитие логического мыш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Конструирование таблиц, сх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оиск информации с помощью компьютерных средств,  словарей и справочник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Анализ грамматического материала (например, догадаться о правиле образования степеней сравнения прилагательных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Завершить предложение, вставить недостающие слова, букв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Использование наглядных моделей, геометрических фигур, схем предложений, планов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Творческие работы и 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9524880" y="3962520"/>
            <a:ext cx="152640" cy="1022400"/>
            <a:chOff x="9524880" y="3962520"/>
            <a:chExt cx="152640" cy="1022400"/>
          </a:xfrm>
        </p:grpSpPr>
        <p:sp>
          <p:nvSpPr>
            <p:cNvPr id="60" name="Rectangle 2"/>
            <p:cNvSpPr/>
            <p:nvPr/>
          </p:nvSpPr>
          <p:spPr>
            <a:xfrm>
              <a:off x="9524880" y="39625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"/>
            <p:cNvGrpSpPr/>
            <p:nvPr/>
          </p:nvGrpSpPr>
          <p:grpSpPr>
            <a:xfrm>
              <a:off x="9524880" y="3962520"/>
              <a:ext cx="152640" cy="1022400"/>
              <a:chOff x="9524880" y="3962520"/>
              <a:chExt cx="152640" cy="1022400"/>
            </a:xfrm>
          </p:grpSpPr>
          <p:sp>
            <p:nvSpPr>
              <p:cNvPr id="62" name="Rectangle 3"/>
              <p:cNvSpPr/>
              <p:nvPr/>
            </p:nvSpPr>
            <p:spPr>
              <a:xfrm>
                <a:off x="9524880" y="39625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"/>
              <p:cNvSpPr/>
              <p:nvPr/>
            </p:nvSpPr>
            <p:spPr>
              <a:xfrm>
                <a:off x="9524880" y="3962520"/>
                <a:ext cx="1526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8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8"/>
          <p:cNvSpPr/>
          <p:nvPr/>
        </p:nvSpPr>
        <p:spPr>
          <a:xfrm>
            <a:off x="5896080" y="3049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87360" y="504720"/>
            <a:ext cx="82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я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46120" y="1447920"/>
            <a:ext cx="8292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оставление рассказа по цепочке, по картинкам или опорной схе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Тестовые задания для самоконтро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заимооценивание письменных работ (словарный диктант одноклассника и т. д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Ежедневное чтение (вслух и «про себя») и письмо (списывание, письмо под диктовку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5. Упражнения с недостающими и лишними дан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Инсценирование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7"/>
          <p:cNvGrpSpPr/>
          <p:nvPr/>
        </p:nvGrpSpPr>
        <p:grpSpPr>
          <a:xfrm>
            <a:off x="9524880" y="1882800"/>
            <a:ext cx="152640" cy="3093840"/>
            <a:chOff x="9524880" y="1882800"/>
            <a:chExt cx="152640" cy="3093840"/>
          </a:xfrm>
        </p:grpSpPr>
        <p:sp>
          <p:nvSpPr>
            <p:cNvPr id="68" name="Rectangle 2"/>
            <p:cNvSpPr/>
            <p:nvPr/>
          </p:nvSpPr>
          <p:spPr>
            <a:xfrm>
              <a:off x="9524880" y="18828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9524880" y="1882800"/>
              <a:ext cx="152640" cy="3093840"/>
              <a:chOff x="9524880" y="1882800"/>
              <a:chExt cx="152640" cy="3093840"/>
            </a:xfrm>
          </p:grpSpPr>
          <p:sp>
            <p:nvSpPr>
              <p:cNvPr id="70" name="Rectangle 3"/>
              <p:cNvSpPr/>
              <p:nvPr/>
            </p:nvSpPr>
            <p:spPr>
              <a:xfrm>
                <a:off x="9524880" y="18828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4"/>
              <p:cNvSpPr/>
              <p:nvPr/>
            </p:nvSpPr>
            <p:spPr>
              <a:xfrm>
                <a:off x="9524880" y="1882800"/>
                <a:ext cx="152640" cy="30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 Box 9"/>
          <p:cNvSpPr/>
          <p:nvPr/>
        </p:nvSpPr>
        <p:spPr>
          <a:xfrm>
            <a:off x="228600" y="369720"/>
            <a:ext cx="8626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ые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465120" y="137160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заимодействие и сотрудничество в поиске и сборе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интерактивных плакатов в обучении планированию работы на ур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полнение заданий, моделирующих жизненные ситу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дания, где необходимо принятие общего реш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иалоги (управление поведением партнера в совместной деятельности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олевые иг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упражнений для формирования УУД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2286000"/>
          <a:ext cx="3962520" cy="4343400"/>
        </p:xfrm>
        <a:graphic>
          <a:graphicData uri="http://schemas.openxmlformats.org/drawingml/2006/table">
            <a:tbl>
              <a:tblPr/>
              <a:tblGrid>
                <a:gridCol w="1081080"/>
                <a:gridCol w="776160"/>
                <a:gridCol w="776520"/>
                <a:gridCol w="663480"/>
                <a:gridCol w="665280"/>
              </a:tblGrid>
              <a:tr h="13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lay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ui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e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al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ke piz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os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a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ohn and 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419720" y="2230200"/>
            <a:ext cx="46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Karen ………… make pizza, but she  ………….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Lisa………….. sing, but she ………….. play the guitar and she ……… make pi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John and Mary…………… play the guitar, but they ………….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Peter …………… make pizza, but he ……………. speak Italian and he ………. 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Joseph ………… play the guitar, but he …………..  speak Ital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533520" y="1219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1. Look at the table and fill in can or can΄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2. Listen and match the children to their parents’ job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2068560"/>
          <a:ext cx="2448000" cy="3282840"/>
        </p:xfrm>
        <a:graphic>
          <a:graphicData uri="http://schemas.openxmlformats.org/drawingml/2006/table">
            <a:tbl>
              <a:tblPr/>
              <a:tblGrid>
                <a:gridCol w="1335240"/>
                <a:gridCol w="1112760"/>
              </a:tblGrid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5219640" y="1946160"/>
            <a:ext cx="335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 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  n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  mech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 b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  post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  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  wa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 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2215440" y="12906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5981760" y="1290600"/>
            <a:ext cx="9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987640" y="195012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J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3. Put the animals under the correct headin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69800" y="1859760"/>
            <a:ext cx="175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ea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ud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eac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rocod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1762200"/>
          <a:ext cx="6629400" cy="3581280"/>
        </p:xfrm>
        <a:graphic>
          <a:graphicData uri="http://schemas.openxmlformats.org/drawingml/2006/table">
            <a:tbl>
              <a:tblPr/>
              <a:tblGrid>
                <a:gridCol w="1657440"/>
                <a:gridCol w="1657080"/>
                <a:gridCol w="1657440"/>
                <a:gridCol w="1657440"/>
              </a:tblGrid>
              <a:tr h="895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rm anim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s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oo anim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 4. Use the Internet to find information about a famous landmark in your country and write a short text about it. You can includ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987640" y="21664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ere it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at it looks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interesting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34:27Z</dcterms:created>
  <dc:creator>Абрамова Татьяна</dc:creator>
  <dc:description/>
  <dc:language>en-US</dc:language>
  <cp:lastModifiedBy>Гость</cp:lastModifiedBy>
  <dcterms:modified xsi:type="dcterms:W3CDTF">2013-01-23T07:53:31Z</dcterms:modified>
  <cp:revision>172</cp:revision>
  <dc:subject/>
  <dc:title>Приздники Великобритании</dc:title>
</cp:coreProperties>
</file>